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36600" y="270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58200" y="228600"/>
            <a:ext cx="60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195000" y="652932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25A0-1CB1-4423-B99B-046C81500E40}" type="slidenum">
              <a:rPr b="1" lang="ko-K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407280"/>
            <a:ext cx="9153360" cy="122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4880" y="6510240"/>
            <a:ext cx="1749600" cy="2905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144400" y="6548400"/>
            <a:ext cx="3809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Always Surpassing Customers Expec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01560"/>
            <a:ext cx="91425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6600" y="270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58200" y="228600"/>
            <a:ext cx="60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95000" y="652932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582A-2B2A-482A-BAF6-C0498CB7EA8B}" type="slidenum">
              <a:rPr b="1" lang="ko-K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6407280"/>
            <a:ext cx="9153360" cy="122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34880" y="6510240"/>
            <a:ext cx="1749600" cy="290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144400" y="6548400"/>
            <a:ext cx="3809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Always Surpassing Customers Expec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01560"/>
            <a:ext cx="91425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3.pn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049480" y="1571760"/>
            <a:ext cx="50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PSTN Caller I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55920" y="5599080"/>
            <a:ext cx="2430360" cy="405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916360" y="4508640"/>
            <a:ext cx="331452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Run ez-phone application and log on ipLDK-60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Select [Send SMS to PSTN] me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Select [sending] tab, and fill each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Press [send] but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3068640"/>
            <a:ext cx="163332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3716280"/>
            <a:ext cx="7993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S CENTER NUMBER : PGM 291-BTN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S OUTGOING CO : PGM 292-BTN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7920" y="101520"/>
            <a:ext cx="55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o receive a Short Message from SM-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69228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1341360"/>
            <a:ext cx="748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125360"/>
            <a:ext cx="7488360" cy="30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here are 4 types of terminal which can receive a short mess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KTU, IP Phone : ipLDK-60 saves short messages for DKTU but it is volatile. that is, if system is reset, these short messages are eras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SMS SLT : ipLDK-60 delivers short messages received from SM-SC to an SMS SLT. In other words, ipLDK-60 system works as an SM-SC. After delivery, the short messages are 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C Applications : ipLDK-60 sends short messages received from SM-SC to PC applications(ez-Phone, ez-Attendant, Phontage). After sending, the short messages are 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4468680"/>
            <a:ext cx="163332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4973760"/>
            <a:ext cx="568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GM 147-BTN1 : CID MODE SELECT(FSK or DTM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GM 291-BTN2 : SMS CENTER C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GM 292-BTN1 : SMS RECEIVE 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umber of SMS messages :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umber of SMS channels :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00" y="765000"/>
            <a:ext cx="845640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체"/>
              </a:rPr>
              <a:t>ipLDK-60 supports FSK Caller ID for CO and S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LDK-60 supports DTMF Caller ID for CO and S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체"/>
              </a:rPr>
              <a:t>Related Spec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체"/>
              </a:rPr>
              <a:t>- FSK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체"/>
              </a:rPr>
              <a:t>Caller ID : ETSI EN 300 659-1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Type 1 Suppor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체"/>
              </a:rPr>
              <a:t>- DTMF Caller ID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DK-TS 900 216(Denmark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BRAS 220-250-713(Brazi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6200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8920" y="223920"/>
            <a:ext cx="27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T Caller ID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3520" y="1268280"/>
            <a:ext cx="888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견고딕"/>
              </a:rPr>
              <a:t>- ipLDK-60 system generates FSK signal or DTMF tone to make CLI display on S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체"/>
              </a:rPr>
              <a:t>- Only Type 1 Supported (OnHook Data Transmiss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2349360"/>
            <a:ext cx="163332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76500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2852640"/>
            <a:ext cx="799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on ID Assign : PGM 110-BTN1 (12: SLT-CID(FSK), 13:SLT-CID(DTMF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63520" y="1268280"/>
            <a:ext cx="888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ipLDK-60 system can receive Caller ID information from outside CO li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Detected CLI is displayed on the stations assigned in PGM14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9120" y="189000"/>
            <a:ext cx="279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CO Caller ID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2349360"/>
            <a:ext cx="163332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765000"/>
            <a:ext cx="1600200" cy="3682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2852640"/>
            <a:ext cx="79930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D MODE SELECT : PGM 147-BTN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D NAME DISPLAY : PGM 147-BT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P DISPLAY : PGM 114-BTN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475720" y="1571760"/>
            <a:ext cx="42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SMS Servi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355920" y="5599080"/>
            <a:ext cx="2430360" cy="405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916360" y="4508640"/>
            <a:ext cx="331452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91960" y="668160"/>
            <a:ext cx="802512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굴림체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체"/>
              </a:rPr>
              <a:t>ipLDK-60 supports ETSI SMS protocol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체"/>
              </a:rPr>
              <a:t>Max. 4 channels are available for SMS in ipLDK-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체"/>
              </a:rPr>
              <a:t>ipLDK-60 delivers SMS messages to SLT, DKTU, IP Phone, ez-Phone, ez-Attendant, Phon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체"/>
              </a:rPr>
              <a:t>SMS messages received from PSTN are volat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체"/>
              </a:rPr>
              <a:t>(If system is reset, SMS messages are eras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  <a:ea typeface="굴림체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6200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755640" y="2232000"/>
          <a:ext cx="7561440" cy="359748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2417760"/>
              </a:tblGrid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 S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ent T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nly external T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KTU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 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 DKTU character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z-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z-Attend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l and external T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763640" y="10526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LDK-60 SMS service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6877080" y="2421000"/>
            <a:ext cx="1295280" cy="1068480"/>
            <a:chOff x="6877080" y="2421000"/>
            <a:chExt cx="1295280" cy="10684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6877080" y="2421000"/>
              <a:ext cx="11858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236000" y="3213000"/>
              <a:ext cx="93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MS SL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 flipH="1" flipV="1">
            <a:off x="6372000" y="2205000"/>
            <a:ext cx="863640" cy="50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300360" y="1484280"/>
            <a:ext cx="1079640" cy="576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684000" y="1628280"/>
            <a:ext cx="1871640" cy="505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360" y="101520"/>
            <a:ext cx="50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o submit Short Message to SM-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453960" cy="838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>
            <a:off x="3347640" y="2133720"/>
            <a:ext cx="16556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835280" y="1341360"/>
            <a:ext cx="1584000" cy="1523880"/>
            <a:chOff x="1835280" y="1341360"/>
            <a:chExt cx="1584000" cy="1523880"/>
          </a:xfrm>
        </p:grpSpPr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1835280" y="1341360"/>
              <a:ext cx="15840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302920" y="1950840"/>
              <a:ext cx="65484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572000" y="1268280"/>
            <a:ext cx="1800360" cy="1776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4716360" y="765000"/>
            <a:ext cx="1366920" cy="34164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7164360" y="1052640"/>
            <a:ext cx="1440000" cy="1068480"/>
            <a:chOff x="7164360" y="1052640"/>
            <a:chExt cx="1440000" cy="1068480"/>
          </a:xfrm>
        </p:grpSpPr>
        <p:pic>
          <p:nvPicPr>
            <p:cNvPr id="126" name="" descr=""/>
            <p:cNvPicPr/>
            <p:nvPr/>
          </p:nvPicPr>
          <p:blipFill>
            <a:blip r:embed="rId6"/>
            <a:stretch/>
          </p:blipFill>
          <p:spPr>
            <a:xfrm>
              <a:off x="7164360" y="1052640"/>
              <a:ext cx="93672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236000" y="1844640"/>
              <a:ext cx="136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C Applic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539640" y="3559320"/>
            <a:ext cx="712800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In case of SMS SL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1. Connect an SMS SLT to ipLDK-60 and enter the SM-SC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2. program PGM 291-BTN1, PGM 292-BTN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3. Edit a short message then s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 case of ez-Phon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41672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2T01:03:44Z</dcterms:created>
  <dc:creator>JEONGWON SUH</dc:creator>
  <dc:description/>
  <dc:language>en-US</dc:language>
  <cp:lastModifiedBy>JEONGWON SUH</cp:lastModifiedBy>
  <cp:lastPrinted>1997-02-26T15:00:00Z</cp:lastPrinted>
  <dcterms:modified xsi:type="dcterms:W3CDTF">2006-11-23T03:38:30Z</dcterms:modified>
  <cp:revision>126</cp:revision>
  <dc:subject/>
  <dc:title>ipLDK-60 SMS</dc:title>
</cp:coreProperties>
</file>